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 " initials=" 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8-12-11T18:53:48.9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940-EFFB-4C96-88F5-42A1C162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4CA-6F34-4361-8110-8E6A6E98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A09-AB03-4233-A980-1A49E9E8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AF5-85F6-4CFF-A110-B275C976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BEC4-2BF8-4858-8021-733DF731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426F-0A4C-4B2F-B9D0-312E884C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E70-6866-41E4-8B6F-361B2E3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E11-E117-4B91-BB4B-39B3C39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BF5A-752B-4545-A8E2-657D46FF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7170-D122-4B9B-991D-3A2684E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6C8-2F15-4554-9387-2BE135B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394-DE8E-4C38-B5E8-E1A1DB5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8018-4961-42D0-8BF4-BD02B2D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88F9-1039-4E56-AD00-18CBFD9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9BE-DDF3-49CC-A2E1-9E030448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8386-85F1-438C-BDAD-268CD994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E04C-E425-498C-841A-61404329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FF6-59BA-4955-B95F-30721301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39-D35F-4DE2-8DF5-255ABF3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844-57B4-4867-9300-AF47B0F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E2C-A034-44F2-AEEA-5FEE996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1AB-0F12-458A-ADFD-A6391F6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C33-D447-4D2D-ADCB-8DA5741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0DE-683B-4D7D-A9F0-1FCEFDF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66D7-8C53-46E4-9C23-5F821C7FF08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E60-F183-44C0-B4FE-E807682AFCC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7d47d"/>
                </a:solidFill>
                <a:latin typeface="Arial"/>
              </a:rPr>
              <a:t>Piano di formazione del personale ATA a.s 2008/2009</a:t>
            </a:r>
            <a:br>
              <a:rPr sz="3600"/>
            </a:br>
            <a:r>
              <a:rPr b="0" lang="it-IT" sz="3600" spc="-1" strike="noStrike">
                <a:solidFill>
                  <a:srgbClr val="f7d47d"/>
                </a:solidFill>
                <a:latin typeface="Arial"/>
              </a:rPr>
              <a:t>Laboratorio di ricerca-azio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ccordo Nazionale 20/10/2008 – art. 2 sequenza contrattuale 25/7/200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onfalcone 17/4/2009 – Udine 21/4/200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 cura di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ranco Cristin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Luigino Del Puppo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Ruggiero Franco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aniela Musso Paludan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Gianfranco Tonett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Rita Zill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792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L LABORATORIO 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ICERCA  AZIONE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ISTENTI AMMINISTRATIV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30080" y="1749600"/>
            <a:ext cx="57466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5120" y="6781680"/>
            <a:ext cx="399888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4c40e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ESTIONE DEL MAGAZZIN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trumenti per la contabilità di magazzin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iornale di magazzin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chedario o partitario dei prodott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Buono d’ordine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Buono di carico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Buono di prelevamento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Buono di versamento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596880"/>
            <a:ext cx="747684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TENUTA PROTOCOLLO E ARCHIVIO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Definizione di protoco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Elementi del protoco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Gestione del titolario di classificazio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Gestione del protocollo informatico e registro protoco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Inalterabilità degli elementi del protoco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Protocollo riserva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Classificazione e registrazione della corrispondenza in arrivo e in parten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Osservanza della normativa da parte del personale autorizza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Coordinamento degli atti per la firma del Dirige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Conservazione  degli att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Definizione di archivio e sua funzio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Scarto degli atti d’archivio  documenti soggetti e non soggetti allo scar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Arial"/>
              </a:rPr>
              <a:t>Procedure di scar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59920" y="268200"/>
            <a:ext cx="7394760" cy="7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INCARICO TRATTAMENTO DATI PERSONALI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Disposizioni general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interessato – dato personale – dati identificativi – dati sensibili – dati giudiziar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Soggetti responsabili del trattamen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Titolare – Responsabile - Incaricat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Norme per il personale docente e amministrativ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Dati trattati dai docent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Dati trattati dal personale amministrativo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inee guida in materia di sicurezza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Informativ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Sanzion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839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FORMAZIONE E TENUTA DEL FASCICOLO PERSONALE DIPENDENTE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Normativa di riferimen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Decentramento delle funzioni relative stato giuridico ed economico del persona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Unificazione dei fascicoli personal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(docente  educativo ed ata a tempo indeterminato – neo immessi in ruol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cessati  dal  servizio – personale a tempo determinato – casi particolari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Composizione del fascicol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documenti di nom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svolgimento della carrier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preparazione tecnica professiona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posizione di sta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trattamento economic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disciplina e giudizi di responsabilit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cessazioni dall’impiego e trattamento di quiescenz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fascicolo d’archivi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2f1311"/>
                </a:solidFill>
                <a:latin typeface="Arial"/>
              </a:rPr>
              <a:t>- vari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ORMAZIONE E TENUTA DEL FASCICOLO PERSONALE STUDENTI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Gestire la carriera scolastica degli allievi  dall’iscrizione  alla licenz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Composizione del fascicol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Dati personali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Biografia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Rapporti con la famigli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ttività individualizz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Programmazioni specific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Prove d’ingress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ttività  di sostegn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Infortun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Valutazioni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Documentazion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LLABORAZIONE ALLA PREDISPOSIZIONE DI ATTI AMMINISTRATIVI – CONTABILI  E PATRIMONIALI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73152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Gestire le procedure relative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ll’acquisizione dei beni e servizi secondo i criteri definiti nel regolamento d’istitu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ll’ acquisizione dei preventivi  per la  comparazione dei prezzi relativi all’acquisto di  materiali e alle prestazioni di opera intellettua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lla predisposizione  degli  atti d’impegno relativi alla fornitura di materiale o ai contratti di prestazione d’oper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lla liquidazione di tutti gli emolumenti al personale interno ed esterno e delle fattur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lla cura e manutenzione del patrimoni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lla tenuta degli inventar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0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L LABORATORIO 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ICERCA  AZIONE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ISTENTI TECNI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30080" y="1749600"/>
            <a:ext cx="57466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145120" y="6781680"/>
            <a:ext cx="399888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2f131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7d47d"/>
                </a:solidFill>
                <a:latin typeface="Arial"/>
              </a:rPr>
              <a:t>COORDINAMENTO GESTIONE LABORATORI</a:t>
            </a: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PIANO OPERATIVO DEI LABORA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Tipo di laboratori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Macchine esistenti nei laborator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tato delle macchin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PIANO ATTIVITA’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Attività scolastich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Attività extra-scolastich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CALENDAR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Piano di utilizzo del laboratorio per le attività didattich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Piano di utilizzo del laboratorio per le attività extra-scolastich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311"/>
            </a:gs>
            <a:gs pos="100000">
              <a:srgbClr val="4c40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7d47d"/>
                </a:solidFill>
                <a:latin typeface="Arial"/>
              </a:rPr>
              <a:t>GESTIONE SICUREZZA E PRIVACY</a:t>
            </a:r>
            <a:br>
              <a:rPr sz="2700"/>
            </a:b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DEGUAMENTO DEI LABORATORI ALLA SICUREZZ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ontrollo periodico e straordinario delle apparecchia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Interventi ordinari e straordin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Misure preventiv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Informazio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ESTIONE PRIVAC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Gestione password di accesso ai p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Gestione password di accesso alla re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Adeguamento Documento Programmatico Sicurezz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boratorio di ricerca-azio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 ore suddivise in almeno 2 momenti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in genere  3+3 or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l laboratorio è coordinato dal DSGA della sede di servizio del corsis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9af7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ff33"/>
                </a:solidFill>
                <a:latin typeface="Arial"/>
              </a:rPr>
              <a:t>COORDINAMENTO AREA UFFICIO TECNICO</a:t>
            </a: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0e8"/>
                </a:solidFill>
                <a:latin typeface="Arial"/>
              </a:rPr>
              <a:t>GESTIONE DEI BEN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Ricognizione dei beni inventaria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Stato dei beni inventaria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Richiesta di materiale di facile consumo per i labora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Acquisto di beni inventariabil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Collaudo dei beni inventariabil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Scarto dei beni inventaria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0e8"/>
                </a:solidFill>
                <a:latin typeface="Arial"/>
              </a:rPr>
              <a:t>Smaltimento degli scarti di lavorazio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7d47d"/>
                </a:solidFill>
                <a:latin typeface="Arial"/>
              </a:rPr>
              <a:t>Piano di formazione del personale ATA a.s 2008/2009 – </a:t>
            </a:r>
            <a:br>
              <a:rPr sz="3600"/>
            </a:br>
            <a:r>
              <a:rPr b="0" lang="it-IT" sz="3600" spc="-1" strike="noStrike">
                <a:solidFill>
                  <a:srgbClr val="f7d47d"/>
                </a:solidFill>
                <a:latin typeface="Arial"/>
              </a:rPr>
              <a:t>COLLABORATORI SCOLASTIC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6400" y="2432160"/>
            <a:ext cx="71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f1311"/>
                </a:solidFill>
                <a:latin typeface="Arial"/>
              </a:rPr>
              <a:t>Stabilito dall’Accordo Nazionale del 20/10/2008 –  in attuazione di quanto stabilito dall’art. 2 della sequenza contrattuale 25/7/2008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2f1311"/>
                </a:solidFill>
                <a:uFillTx/>
                <a:latin typeface="Arial"/>
              </a:rPr>
              <a:t>Art. 7 – formazione per la PRIMA posizione econom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vità della formazione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l Laboratorio di ricerca-azio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 ore suddivise in almeno 2 moment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l laboratorio è coordinato dal DSGA della sede di servizio del corsis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biettivo del laboratorio di ricerca-azion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ar sperimentare al corsista le nuove mansioni = esperienza professionalizzan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ocumentazione attività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l laboratorio ricerca-azio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 cura del DSGA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cordare con il corsista una esperienza lavorativa delle nuove mansioni, individuata nel piano delle attivit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ocumentazione attività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l laboratorio ricerca-azio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 cura del DSGA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048120"/>
            <a:ext cx="75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1311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1311"/>
                </a:solidFill>
                <a:latin typeface="Tahoma"/>
              </a:rPr>
              <a:t>Proporre una lista ragionata di operazioni da fare in relazione all’area prescelta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f1311"/>
                </a:solidFill>
                <a:latin typeface="Tahoma"/>
              </a:rPr>
              <a:t>Le AREE DEL LABORATORIO  previste sono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1. Attività di vigilanza, accoglienza e sorveglian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2. Relazioni col pubblic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3. Attività di primo soccor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4. Ausilio alla disabilità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5. Attività di controllo periodico dei presidi di primo soccorso ed antincend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6. Azioni di igiene e sanificazio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1311"/>
                </a:solidFill>
                <a:latin typeface="Tahoma"/>
              </a:rPr>
              <a:t>7. Supporto all’attività amministrativ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7d47d"/>
                </a:solidFill>
                <a:latin typeface="Arial"/>
              </a:rPr>
              <a:t>Documentazione attività</a:t>
            </a:r>
            <a:br>
              <a:rPr sz="2800"/>
            </a:br>
            <a:r>
              <a:rPr b="0" lang="it-IT" sz="2800" spc="-1" strike="noStrike">
                <a:solidFill>
                  <a:srgbClr val="f7d47d"/>
                </a:solidFill>
                <a:latin typeface="Arial"/>
              </a:rPr>
              <a:t>del laboratorio ricerca-azione</a:t>
            </a:r>
            <a:br>
              <a:rPr sz="2800"/>
            </a:br>
            <a:r>
              <a:rPr b="0" lang="it-IT" sz="2800" spc="-1" strike="noStrike">
                <a:solidFill>
                  <a:srgbClr val="f7d47d"/>
                </a:solidFill>
                <a:latin typeface="Arial"/>
              </a:rPr>
              <a:t>3) attestazione a cura DSGA </a:t>
            </a:r>
            <a:br>
              <a:rPr sz="2800"/>
            </a:br>
            <a:r>
              <a:rPr b="0" lang="it-IT" sz="2800" spc="-1" strike="noStrike">
                <a:solidFill>
                  <a:srgbClr val="f7d47d"/>
                </a:solidFill>
                <a:latin typeface="Arial"/>
              </a:rPr>
              <a:t>( –fac simile format in piattaforma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8080" y="2209680"/>
          <a:ext cx="7772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772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 cura del corsist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cordare con il DSGA  della sua scuola di servizio l’esperienza lavorativa da approfondire per 6 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volgerla redigendo una lista ragionata dei compiti svolt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viare la lista (o relazione) nell’apposita sezione della piattaforma unitamente  ai dati contenuti nell’attestazion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ista ragionata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pplicata alle azioni oggetto del laboratorio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per i C.S. (alcuni esempi di lavoro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omento: Accoglienza e sorveglianza degli access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e  deve presentarsi  il CS all’utente che entra e cosa deve sempre chiedere tenuto conto di quanto previsto dalle norme sulla Privacy e sul trattamento dei dati person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r rispettare gli orari previsti per gli accessi agli uffi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iflessione sulle responsabilità civili e penali in relazione agli accessi di persone estrane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4c40e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biettivo del laboratorio di ricerca-azione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ar sperimentare al corsista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e nuove mansio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2f1311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perienza professionalizzan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coglienza e sorveglianza degli access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sicurarsi che le porte  siano chiuse regolarmente al termine delle attività o durante gli orari nei quali il pubblico non può accedere ai loc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sicurarsi che le porte dei laboratori siano chiuse regolarmente al termine delle attività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lazione scritta del corsiste sulla successione della varie azioni relative al laboratori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terventi di primo soccors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venire applicando le azioni previste secondo quanto già appreso durante la formazione art.3 ,ovvero durante altri corsi di primo soccorso frequenta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edere al collega o comunque ad un’altra persona (insegnante o altro studente) di comunicare all’Ufficio didattica il nominativo dell’alunno infortuna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giornare l’ufficio per l’eventuale comunicazione alla famigli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si sono utilizzati ausili contenuti nella cassetta di primo soccorso dare comunicazione  all’ufficio competente per il conseguente ripristi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ifica funzionale periodica dei presidi medico - sanitari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estione dei servizi di pulizie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Pulizia giornaliera di una classe: registrare in successione le corrette azioni previs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Pulizia a fondo di un servizio igienico con detersione e disinfezio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Evidenziare le relazioni tra  pulizia e  sicurezz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Utilizzare i dispositivi di sicurezza personale e ambient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Relazione scritta da parte del corsista delle azioni  secondo la successione operat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7d47d"/>
                </a:solidFill>
                <a:latin typeface="Arial"/>
              </a:rPr>
              <a:t>Ausilio alunni D.A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Acquisire un atteggiamento che favorisca la conquista dell’autonomia da parte di un alunno diversamente abil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Individuare e praticare sistemi di comunicazione con alunni affetti da difficoltà di linguaggi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il collaboratore scolastico preposto all’accoglienza, anche se non ha particolari qualità culturali, può avere  una dote naturale e una spiccata propensione ai rapporti interpersonali e utilizzarli con gli alunni D.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7d47d"/>
                </a:solidFill>
                <a:latin typeface="Arial"/>
              </a:rPr>
              <a:t>Ausilio alunni D.A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essere di aiuto materiale nell’assicurare gli spostamenti dell’alunno D.A.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individuare i problemi della piccola quotidianità per trovare soluzioni volte a migliorare la vita nella scuola degli alunni disabili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occuparsi del bambino per quanto riguarda l’accoglienza, la cura della sua persona, l’uso dei servizi igienici e l’igiene persona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Documentazione attività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f1311"/>
                </a:solidFill>
                <a:latin typeface="Arial"/>
              </a:rPr>
              <a:t>A cura del DSGA: relazione conclusiva completa della lista ragionata dei compiti svolti da inviare al tutor per la validazion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ista ragionata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pplicata alle azioni oggetto del laboratorio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alcuni esempi di lavoro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ollaboratori scolastici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c40e8"/>
                </a:solidFill>
                <a:latin typeface="Arial"/>
              </a:rPr>
              <a:t>Argomento: Accoglienza e sorveglianza degli access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e  deve presentarsi  il CS all’utente che entra e cosa deve sempre chiede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r rispettare gli orari previsti per gli accessi agli uffi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iflessione sulle responsabilità civili e penali in relazione agli accessi di persone estrane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coglienza e sorveglianza degli access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sicurarsi che le porte siano chiuse regolarmente al termine delle attività o durante gli orari nei quali il pubblico non può accedere ai loca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lazione scritta del corsiste sulla successione della varie azioni relative al laboratori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nterventi di primo soccors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1311"/>
                </a:solidFill>
                <a:latin typeface="Arial"/>
              </a:rPr>
              <a:t>Intervenire applicando le azioni previste secondo quanto già appreso durante la formazione art.3 ,ovvero durante altri corsi di primo soccorso frequenta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1311"/>
                </a:solidFill>
                <a:latin typeface="Arial"/>
              </a:rPr>
              <a:t>Chiedere al collega o comunque ad un’altra persona (insegnante o altro studente) di comunicare all’Ufficio didattica il nominativo dell’alunno infortuna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1311"/>
                </a:solidFill>
                <a:latin typeface="Arial"/>
              </a:rPr>
              <a:t>Aggiornare l’ufficio per l’eventuale comunicazione alla famigli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1311"/>
                </a:solidFill>
                <a:latin typeface="Arial"/>
              </a:rPr>
              <a:t>Se si sono utilizzati ausili contenuti nella cassetta di primo soccorso dare comunicazione  all’ufficio competente per il conseguente ripristi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estione dei servizi di pulizie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ulizia giornaliera di una cl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ulizia a fondo di un servizio igieni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lazione scritta da parte del corsista delle azioni  secondo la successione operat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.I.U.R.</cp:lastModifiedBy>
  <dcterms:modified xsi:type="dcterms:W3CDTF">2009-06-19T11:04:2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